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FAE5-B3D2-488A-88CD-18337F27D8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41E3-B25A-4CE3-95FA-4EDAC88563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the sce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rector used backlighting to show that Charlie and Grandpa Joe are the heroes of the story and they deserve the audience’s sup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backlighting towards the beginning of the film clarifies the characters’ roles in the plot, and allows the audience to be confident about cheering for these 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cklighting also foreshadowed the resolution of the plot – the heroes won the contes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50B4-32CB-4ED2-93E4-0FFE2D6955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the sce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rector used backlighting to show that Charlie and Grandpa Joe are the heroes of the story and they deserve the audience’s sup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backlighting towards the beginning of the film clarifies the characters’ roles in the plot, and allows the audience to be confident about cheering for these 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cklighting also foreshadowed the resolution of the plot – the heroes won the contes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F9FC-6987-4EC3-8C30-CAF89D728D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the sce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rector used backlighting to show that Charlie and Grandpa Joe are the heroes of the story and they deserve the audience’s sup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backlighting towards the beginning of the film clarifies the characters’ roles in the plot, and allows the audience to be confident about cheering for these 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cklighting also foreshadowed the resolution of the plot – the heroes won the contes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73AA-5C5A-4B07-A753-4D2AE907CF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the sce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rector used backlighting to show that Charlie and Grandpa Joe are the heroes of the story and they deserve the audience’s sup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backlighting towards the beginning of the film clarifies the characters’ roles in the plot, and allows the audience to be confident about cheering for these 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cklighting also foreshadowed the resolution of the plot – the heroes won the contes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879D-F049-4DB0-9C30-79272C1267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the sce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rector used backlighting to show that Charlie and Grandpa Joe are the heroes of the story and they deserve the audience’s sup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backlighting towards the beginning of the film clarifies the characters’ roles in the plot, and allows the audience to be confident about cheering for these 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cklighting also foreshadowed the resolution of the plot – the heroes won the contes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930A-50FC-4069-A039-866DF9A30B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the sce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rector used backlighting to show that Charlie and Grandpa Joe are the heroes of the story and they deserve the audience’s sup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backlighting towards the beginning of the film clarifies the characters’ roles in the plot, and allows the audience to be confident about cheering for these 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cklighting also foreshadowed the resolution of the plot – the heroes won the contes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D9CC-37F8-4410-B255-4688930722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the sce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rector used backlighting to show that Charlie and Grandpa Joe are the heroes of the story and they deserve the audience’s sup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backlighting towards the beginning of the film clarifies the characters’ roles in the plot, and allows the audience to be confident about cheering for these 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cklighting also foreshadowed the resolution of the plot – the heroes won the contes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B445-B1BC-4021-8309-EA1E812008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the sce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rector used backlighting to show that Charlie and Grandpa Joe are the heroes of the story and they deserve the audience’s sup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backlighting towards the beginning of the film clarifies the characters’ roles in the plot, and allows the audience to be confident about cheering for these 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cklighting also foreshadowed the resolution of the plot – the heroes won the contes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A036-9ADD-4E23-AEAF-F53E5DC9D5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the sce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rector used backlighting to show that Charlie and Grandpa Joe are the heroes of the story and they deserve the audience’s sup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backlighting towards the beginning of the film clarifies the characters’ roles in the plot, and allows the audience to be confident about cheering for these 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cklighting also foreshadowed the resolution of the plot – the heroes won the contes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14D6-25B3-4117-BAFF-5A33632233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the sce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rector used backlighting to show that Charlie and Grandpa Joe are the heroes of the story and they deserve the audience’s sup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backlighting towards the beginning of the film clarifies the characters’ roles in the plot, and allows the audience to be confident about cheering for these 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cklighting also foreshadowed the resolution of the plot – the heroes won the contes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85C2-8463-49B2-A2F6-C7B97535E8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the sce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rector used backlighting to show that Charlie and Grandpa Joe are the heroes of the story and they deserve the audience’s sup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backlighting towards the beginning of the film clarifies the characters’ roles in the plot, and allows the audience to be confident about cheering for these 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cklighting also foreshadowed the resolution of the plot – the heroes won the contes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FF84-3D40-4140-B28D-DC22BF72C8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the sce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rector used backlighting to show that Charlie and Grandpa Joe are the heroes of the story and they deserve the audience’s sup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backlighting towards the beginning of the film clarifies the characters’ roles in the plot, and allows the audience to be confident about cheering for these 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cklighting also foreshadowed the resolution of the plot – the heroes won the contes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2FA6-E3B3-40E7-BF83-628FF3E78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75BD-B853-4B2F-B759-5A39F9C4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8267-5CF5-49BF-AE0B-109806463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D498-F71E-472E-8912-B09535EB3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C1A1-4A4F-4D0B-A2AC-F489D3C0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A4CF-D30A-485B-83FF-8FD4132F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482C-8C53-450E-AC6C-ED32E350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6A6D-FA84-499C-8150-6BE017BC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614A-8F2B-40C4-92B9-7C70C09C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A9B1-99C9-4B47-B522-807F6856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A3CC-D384-4E94-A7B2-E0C649DE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96CB-F055-4AE5-B717-E15DCB1C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A085-621D-4F81-A6E5-9AA540CFF7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Sce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Light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Mean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1371600" y="9144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t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Sce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Light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Mean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1371600" y="9144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t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reme Lo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Sce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Light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Mean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1371600" y="9144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t Ang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igh Ang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Sce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Light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Mean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1371600" y="9144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t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di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2"/>
          <p:cNvSpPr/>
          <p:nvPr/>
        </p:nvSpPr>
        <p:spPr>
          <a:xfrm>
            <a:off x="1371600" y="9144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t Ang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w Ang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Sce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Light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Mean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1371600" y="9144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t Ang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ye-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Sce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Light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Mean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1371600" y="9144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t Ang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Sce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Light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Mean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1371600" y="9144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ghting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ckligh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Sce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Light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Mean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1371600" y="9144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ghting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ft Ligh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Sce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Light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Mean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1371600" y="9144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ghting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rsh Ligh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Sce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Light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Mean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Sce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Light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Mean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1371600" y="9144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t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ose-u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Sce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Light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Mean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1371600" y="9144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t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reme Close-u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16:50:00Z</dcterms:created>
  <dc:creator>BGRS</dc:creator>
  <dc:description/>
  <dc:language>en-US</dc:language>
  <cp:lastModifiedBy>BGRS</cp:lastModifiedBy>
  <dcterms:modified xsi:type="dcterms:W3CDTF">2010-06-08T17:13:30Z</dcterms:modified>
  <cp:revision>3</cp:revision>
  <dc:subject/>
  <dc:title>Title</dc:title>
</cp:coreProperties>
</file>